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E1FB0-54BB-495C-9E0D-BDB44875A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47CCD-825D-4C96-9CC0-74FDF38A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9E919-EF82-41E5-9163-A853AD355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316D7-7929-461F-88DF-1D66D36A0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F2AC8-6D4B-461F-8081-7B773F28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642E-22C9-42D6-88FE-7E5A92360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174BF-8A32-46A6-96D2-B5862B11E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88001-EB6F-4E0F-AFDA-277CF815C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FFB0A-967E-4F7E-9FA1-7C2171F47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FE6EB-1F9D-4203-A055-01D8338E7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E3766-A692-4F1F-876E-B109D4576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7B8A-DE0D-47D8-BCCE-8C8D6134E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2B3D-BE4B-4769-9B01-B44CF60D4A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Bill Making Process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Tribune has a page that allows you to search the bills introduced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everal types of bills that can be introduced to the legislature, these are designated with different prefixes before the numbers which designate the order in which they were introduc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general categories of legislation: bill and re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olutions are used to establish law, rather they “are commonly used to propose amendments to the Texas Constitution; take care of housekeeping functions; convey congratulations or condolences to individuals or groups in the state; express legislative intent; express an opinion or sentiment on matters of public interest; give direction to a state agency or official; or call on certain governmental agencies, offices, or units such as the U.S. Congress to take a specific course of a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each with a distinct hea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oint resolutions are titled “HJR” and “SJR” depending on whether they originate in the House or Senate. They are used to propose amendments to the Texas Constitution and require a 2/3rds vote in each chamber to pass. They are not submitted to the governor, but do have to ratified by a simple majority of the popular vo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resolutions are titled “NCR” and “SCR” and are used “when both chambers have an interest in a particular matter. Such resolutions may originate in either chamber but must be adopted by both. Concurrent resolutions may be used for matters affecting operations and procedures of the legislature, such as joint sessions or adjournment sine die. They also are used to memorialize (petition) the U.S. Congress, give directions to a state agency or officer, express views of the legislature, or express congratulations or condolences. Concurrent resolutions, except those that pertain solely to matters between the two chambers, must be submitted to the governor for approv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 resolutions are titled “HR” and “SR” and “pertain to matters considered by the chamber of origin only. They are used for such purposes as adopting or changing rules of procedure or expressing congratulations or condol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spends the bulk of its time focusing on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bill? A type of legislative measure that requires passage by both chambers of the legislature and action by the governor. A bill is the primary means used to create and change the laws of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alk through the bill making process in the state an closely follow the information made available online by the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B” and “SB” are the designations given to House Bills and Senate Bills. The difference between the two depends on whether the bill in question was introduced in the house or Senate. Generally a bill introduced in one chamber is accompanied with a “matching bill” introduced in the other chamber. Bills have to passed by both chambers with identical language in order for them to be presented to the governor for a potential sign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bills: </a:t>
            </a:r>
            <a:br>
              <a:rPr sz="4400"/>
            </a:br>
            <a:br>
              <a:rPr sz="4400"/>
            </a:br>
            <a:r>
              <a:rPr b="0" lang="en-US" sz="4400" spc="-1" strike="noStrike">
                <a:solidFill>
                  <a:srgbClr val="000000"/>
                </a:solidFill>
                <a:latin typeface="Calibri"/>
              </a:rPr>
              <a:t>Public</a:t>
            </a:r>
            <a:br>
              <a:rPr sz="4400"/>
            </a:br>
            <a:r>
              <a:rPr b="0" lang="en-US" sz="4400" spc="-1" strike="noStrike">
                <a:solidFill>
                  <a:srgbClr val="000000"/>
                </a:solidFill>
                <a:latin typeface="Calibri"/>
              </a:rPr>
              <a:t>Local – or non controversial</a:t>
            </a:r>
            <a:br>
              <a:rPr sz="4400"/>
            </a:br>
            <a:r>
              <a:rPr b="0" lang="en-US" sz="4400" spc="-1" strike="noStrike">
                <a:solidFill>
                  <a:srgbClr val="000000"/>
                </a:solidFill>
                <a:latin typeface="Calibri"/>
              </a:rPr>
              <a:t>Emerg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walk through of the bill making process following the steps outlined in the GTLI.</a:t>
            </a:r>
            <a:br>
              <a:rPr sz="4400"/>
            </a:br>
            <a:br>
              <a:rPr sz="4400"/>
            </a:br>
            <a:r>
              <a:rPr b="0" lang="en-US" sz="4400" spc="-1" strike="noStrike">
                <a:solidFill>
                  <a:srgbClr val="000000"/>
                </a:solidFill>
                <a:latin typeface="Calibri"/>
              </a:rPr>
              <a:t>For diagrams of the process for House and Senate bills click here. The Texas House also has a quick run-through of th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ess itself “is governed by the Texas Constitution, applicable statutes, and the rules of procedure of the senate and house, and the different phases of activity typically occur within a prescribed timetable. The rules of procedure are adopted by the respective chambers at the beginning of each s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quick general point: the process is cumbersome and contains many points where bills can be defeated. While Texas has a far higher rate of bill passage than the US Congress, most bill do not make it through the process.</a:t>
            </a:r>
            <a:br>
              <a:rPr sz="3600"/>
            </a:br>
            <a:br>
              <a:rPr sz="3600"/>
            </a:br>
            <a:r>
              <a:rPr b="0" lang="en-US" sz="3600" spc="-1" strike="noStrike">
                <a:solidFill>
                  <a:srgbClr val="000000"/>
                </a:solidFill>
                <a:latin typeface="Calibri"/>
              </a:rPr>
              <a:t>While the legislature has the power to pass laws, the ability do so is hamstru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quick point – or a reminder: Sessions of the Texas Legislature are limited to 140 calendar days. This does not give much time for bills to be considered. Activity can be very fast, especially toward the end of the se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dates of interest for the 83</a:t>
            </a:r>
            <a:r>
              <a:rPr b="0" lang="en-US" sz="4400" spc="-1" strike="noStrike" baseline="30000">
                <a:solidFill>
                  <a:srgbClr val="000000"/>
                </a:solidFill>
                <a:latin typeface="Calibri"/>
              </a:rPr>
              <a:t>rd</a:t>
            </a:r>
            <a:r>
              <a:rPr b="0" lang="en-US" sz="4400" spc="-1" strike="noStrike">
                <a:solidFill>
                  <a:srgbClr val="000000"/>
                </a:solidFill>
                <a:latin typeface="Calibri"/>
              </a:rPr>
              <a:t> Session which convenes January 8, 20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 Bill Origin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lls originate as ideas from  variety of places. They can come from the legislator, a particular constituency of the legislator, or a legislative committee. In Texas, powerful interest groups often generate bills that collectively attempt to influence the nature of governance in the state. Sometimes bills can be introduced repeatedly until conditions are ripe for their passag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lls have to be in a specific form – which can be found in the Texas Legislative Council’s Drafting Manual. </a:t>
            </a:r>
            <a:br>
              <a:rPr sz="4000"/>
            </a:br>
            <a:br>
              <a:rPr sz="4000"/>
            </a:br>
            <a:r>
              <a:rPr b="0" lang="en-US" sz="4000" spc="-1" strike="noStrike">
                <a:solidFill>
                  <a:srgbClr val="000000"/>
                </a:solidFill>
                <a:latin typeface="Calibri"/>
              </a:rPr>
              <a:t>Bills can only contain one subject, with the exception of general appropriations bills which are prepared by the Texas Budget Bo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ulk of the material will be obtained through the website called the Guide to Texas Legislative Information.</a:t>
            </a:r>
            <a:br>
              <a:rPr sz="4000"/>
            </a:br>
            <a:br>
              <a:rPr sz="4000"/>
            </a:br>
            <a:r>
              <a:rPr b="0" lang="en-US" sz="4000" spc="-1" strike="noStrike">
                <a:solidFill>
                  <a:srgbClr val="000000"/>
                </a:solidFill>
                <a:latin typeface="Calibri"/>
              </a:rPr>
              <a:t>We will primarily follow the material it contains on the section on the Legislative Process. The Texas Medical Association provides a nice brief overview of the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Groups: </a:t>
            </a:r>
            <a:br>
              <a:rPr sz="4400"/>
            </a:br>
            <a:br>
              <a:rPr sz="4400"/>
            </a:br>
            <a:r>
              <a:rPr b="0" lang="en-US" sz="4400" spc="-1" strike="noStrike">
                <a:solidFill>
                  <a:srgbClr val="000000"/>
                </a:solidFill>
                <a:latin typeface="Calibri"/>
              </a:rPr>
              <a:t>Texas Public Policy Foundation</a:t>
            </a:r>
            <a:br>
              <a:rPr sz="4400"/>
            </a:br>
            <a:r>
              <a:rPr b="0" lang="en-US" sz="4400" spc="-1" strike="noStrike">
                <a:solidFill>
                  <a:srgbClr val="000000"/>
                </a:solidFill>
                <a:latin typeface="Calibri"/>
              </a:rPr>
              <a:t>ALE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a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member of either chamber can introduce bills in that chamber by providing a required number of copies to the chief clerk, who then assigns the bill a number.</a:t>
            </a:r>
            <a:br>
              <a:rPr sz="4400"/>
            </a:br>
            <a:br>
              <a:rPr sz="4400"/>
            </a:br>
            <a:r>
              <a:rPr b="0" lang="en-US" sz="4400" spc="-1" strike="noStrike">
                <a:solidFill>
                  <a:srgbClr val="000000"/>
                </a:solidFill>
                <a:latin typeface="Calibri"/>
              </a:rPr>
              <a:t>A few rules apply to when and how bills can be introduc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can be pre-filed beginning the Monday following the general election. </a:t>
            </a:r>
            <a:br>
              <a:rPr sz="4400"/>
            </a:br>
            <a:br>
              <a:rPr sz="4400"/>
            </a:br>
            <a:r>
              <a:rPr b="0" lang="en-US" sz="4400" spc="-1" strike="noStrike">
                <a:solidFill>
                  <a:srgbClr val="000000"/>
                </a:solidFill>
                <a:latin typeface="Calibri"/>
              </a:rPr>
              <a:t>For the 83</a:t>
            </a:r>
            <a:r>
              <a:rPr b="0" lang="en-US" sz="4400" spc="-1" strike="noStrike" baseline="30000">
                <a:solidFill>
                  <a:srgbClr val="000000"/>
                </a:solidFill>
                <a:latin typeface="Calibri"/>
              </a:rPr>
              <a:t>rd</a:t>
            </a:r>
            <a:r>
              <a:rPr b="0" lang="en-US" sz="4400" spc="-1" strike="noStrike">
                <a:solidFill>
                  <a:srgbClr val="000000"/>
                </a:solidFill>
                <a:latin typeface="Calibri"/>
              </a:rPr>
              <a:t> session, that date is Monday November 12, 20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bill can be introduced on any subject during the first 60 days of the session. After 60 days, only local or emergency bills can be introduc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can also declare certain bills to be “emergency bills” and these are fast-tracked through the legislativ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ral to a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a bill is introduced into one of the chambers of the legislature, the caption is read and it is referred to a committee by the Speaker or Lieutenant Governor. </a:t>
            </a:r>
            <a:br>
              <a:rPr sz="4000"/>
            </a:br>
            <a:br>
              <a:rPr sz="4000"/>
            </a:br>
            <a:r>
              <a:rPr b="0" lang="en-US" sz="4000" spc="-1" strike="noStrike">
                <a:solidFill>
                  <a:srgbClr val="000000"/>
                </a:solidFill>
                <a:latin typeface="Calibri"/>
              </a:rPr>
              <a:t>This is an additional power for each of these offices. Discretion over which committee considers the bill can help determine the fate of a bi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s exist in order to allow subsets of legislators to focus on specific types of legislation. The Speaker and the Lieutenant Governor have the sole power to appoint members to committee, as well as appoint committee chairs. This is a key source of their strength. Committee members can then hold hearings on the bills, modify it, or table it meaning that it dies in committee</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Bills must be reported out of committee in order for it to move forward. This is the most common place for bill to d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may the most important institution in the legislature because that is where the actual subject matter of legislation is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what’s contained in the Legislative Reference Library of Texas, which “performs research for Texas legislators, their staff, and legislative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crucial for members of the legislature to be assigned to committees that give them jurisdiction over issues important to their constituents. This need creates leverage for each chamber’s presiding officer. Members must cooperate with the officer’s objectives in order to be appointed to their preferred committe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mmittees are formed at the beginning of the regular session and generally consist of 5 to 29 members. For committees of the house of representatives, membership of most committees is determined in part by seniority and in part by appointments by the speaker. Each representative sits on at least one committee, and most representatives sit on two or three committees. The house in the 80th Legislature had 40 substantive and procedural standing committe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For committees of the senate, membership is determined entirely by appointments by the lieutenant governor. Senators generally sit on three or four committees each, and the senate in the 80th Legislature had 15 standing committe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House Committees</a:t>
            </a:r>
            <a:br>
              <a:rPr sz="4400"/>
            </a:br>
            <a:br>
              <a:rPr sz="4400"/>
            </a:br>
            <a:r>
              <a:rPr b="0" lang="en-US" sz="4400" spc="-1" strike="noStrike">
                <a:solidFill>
                  <a:srgbClr val="000000"/>
                </a:solidFill>
                <a:latin typeface="Calibri"/>
              </a:rPr>
              <a:t>Click Here for Senate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types of committees in the Texas Legislature. </a:t>
            </a:r>
            <a:br>
              <a:rPr sz="4400"/>
            </a:br>
            <a:br>
              <a:rPr sz="4400"/>
            </a:br>
            <a:r>
              <a:rPr b="0" lang="en-US" sz="4400" spc="-1" strike="noStrike">
                <a:solidFill>
                  <a:srgbClr val="000000"/>
                </a:solidFill>
                <a:latin typeface="Calibri"/>
              </a:rPr>
              <a:t>Substantive committees, where bills are considered, and procedural committees, that determine how the legislature oper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 may decide to appoint subcommittees to consider certain types of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is referred to committee, a determination is made as to whether the bill will involve any costs. If so, a fiscal note must be prepared by the Legislative Budget Board that accompanies the bill as it goes through the legislativ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CAL NOTE—An estimate, prepared by the Legislative Budget Board, of the probable costs that will be incurred as an effect of a bill or joint re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can then hold public hearings on the bills – if they choose to do so. </a:t>
            </a:r>
            <a:br>
              <a:rPr sz="4400"/>
            </a:br>
            <a:br>
              <a:rPr sz="4400"/>
            </a:br>
            <a:r>
              <a:rPr b="0" lang="en-US" sz="4400" spc="-1" strike="noStrike">
                <a:solidFill>
                  <a:srgbClr val="000000"/>
                </a:solidFill>
                <a:latin typeface="Calibri"/>
              </a:rPr>
              <a:t>After consideration, the committee may choose to report out a bill. This means they pass it and report to others in the legislature 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ing here takes you to the TLR’s page on Bill Statistics which shows you how many bills have been introduced and passed going back to the 19</a:t>
            </a:r>
            <a:r>
              <a:rPr b="0" lang="en-US" sz="4400" spc="-1" strike="noStrike" baseline="30000">
                <a:solidFill>
                  <a:srgbClr val="000000"/>
                </a:solidFill>
                <a:latin typeface="Calibri"/>
              </a:rPr>
              <a:t>th</a:t>
            </a:r>
            <a:r>
              <a:rPr b="0" lang="en-US" sz="4400" spc="-1" strike="noStrike">
                <a:solidFill>
                  <a:srgbClr val="000000"/>
                </a:solidFill>
                <a:latin typeface="Calibri"/>
              </a:rPr>
              <a:t> Legislative Session.</a:t>
            </a:r>
            <a:br>
              <a:rPr sz="4400"/>
            </a:br>
            <a:br>
              <a:rPr sz="4400"/>
            </a:br>
            <a:r>
              <a:rPr b="0" lang="en-US" sz="4400" spc="-1" strike="noStrike">
                <a:solidFill>
                  <a:srgbClr val="000000"/>
                </a:solidFill>
                <a:latin typeface="Calibri"/>
              </a:rPr>
              <a:t>The South Texas College of Law has a page detailing how to determine legislative intent. So does the LR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committee reports unfavorably on a bill, it is generally dead, but if an interested minority of the committee approves of the bill, it can issue a minority report which can be adopted by a minority of the House or by 2/3rds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 Repo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fter considering a bill, a committee may choose to take no action or may issue a report on the bill to the house or senate. Committee reports are advisory only and may take several forms. The committee may recommend passage of the bill without amendments, or it may recommend amendments to the bill or even substitute a new bill for the original document. </a:t>
            </a:r>
            <a:br>
              <a:rPr sz="2400"/>
            </a:br>
            <a:br>
              <a:rPr sz="2400"/>
            </a:br>
            <a:r>
              <a:rPr b="0" lang="en-US" sz="2400" spc="-1" strike="noStrike">
                <a:solidFill>
                  <a:srgbClr val="000000"/>
                </a:solidFill>
                <a:latin typeface="Calibri"/>
              </a:rPr>
              <a:t>The committee report includes a record of the committee’s recommendations and vote regarding house or senate action on the bill, including the recommendation regarding placement on a calendar; the text of the bill as reported by the committee, which may be the introduced text or a substitute; any proposed amendments; a detailed bill analysis; a fiscal note or other impact statement; and other attachments as necessar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 reports are printed and delivered to each member of the chamber in question. </a:t>
            </a:r>
            <a:br>
              <a:rPr sz="4400"/>
            </a:br>
            <a:br>
              <a:rPr sz="4400"/>
            </a:br>
            <a:r>
              <a:rPr b="0" lang="en-US" sz="4400" spc="-1" strike="noStrike">
                <a:solidFill>
                  <a:srgbClr val="000000"/>
                </a:solidFill>
                <a:latin typeface="Calibri"/>
              </a:rPr>
              <a:t>For bills in the House, a copy is also delivered to the calendars committee which then schedules the bill for floor consi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from the Committee to the Floor: </a:t>
            </a:r>
            <a:br>
              <a:rPr sz="4400"/>
            </a:br>
            <a:br>
              <a:rPr sz="4400"/>
            </a:br>
            <a:r>
              <a:rPr b="0" lang="en-US" sz="4400" spc="-1" strike="noStrike">
                <a:solidFill>
                  <a:srgbClr val="000000"/>
                </a:solidFill>
                <a:latin typeface="Calibri"/>
              </a:rPr>
              <a:t>Calendars and Agend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Calend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ouse has a Committee on Calendars which has wide discretion in determining when bills reported out of committee will be heard on the House floor.</a:t>
            </a:r>
            <a:br>
              <a:rPr sz="4400"/>
            </a:br>
            <a:br>
              <a:rPr sz="4400"/>
            </a:br>
            <a:r>
              <a:rPr b="0" lang="en-US" sz="4400" spc="-1" strike="noStrike">
                <a:solidFill>
                  <a:srgbClr val="000000"/>
                </a:solidFill>
                <a:latin typeface="Calibri"/>
              </a:rPr>
              <a:t>Click here for the page in the Texas Legislature Online that describes and contains these calend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types of calend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 the Daily House Calendar, which contains a list of new bills and resolutions scheduled by the Committee on Calendars for consideration by the house; </a:t>
            </a:r>
            <a:br>
              <a:rPr sz="2000"/>
            </a:br>
            <a:br>
              <a:rPr sz="2000"/>
            </a:br>
            <a:r>
              <a:rPr b="0" lang="en-US" sz="2000" spc="-1" strike="noStrike">
                <a:solidFill>
                  <a:srgbClr val="000000"/>
                </a:solidFill>
                <a:latin typeface="Calibri"/>
              </a:rPr>
              <a:t>2 - the Supplemental House Calendar (prepared by the Committee on Calendars), which may contain: (a) measures passed to third reading on the previous day; (b) measures on the Daily House Calendar for a previous day that were not reached for consideration; (c) measures on the Daily House Calendar for the current day; (d) postponed business from a previous day; and (e) notice to call from the table a measure laid on the table subject to call on a previous day; </a:t>
            </a:r>
            <a:br>
              <a:rPr sz="2000"/>
            </a:br>
            <a:br>
              <a:rPr sz="2000"/>
            </a:br>
            <a:r>
              <a:rPr b="0" lang="en-US" sz="2000" spc="-1" strike="noStrike">
                <a:solidFill>
                  <a:srgbClr val="000000"/>
                </a:solidFill>
                <a:latin typeface="Calibri"/>
              </a:rPr>
              <a:t>3 - the Local, Consent, and Resolutions Calendar, which contains a list of local or noncontroversial bills scheduled by the Committee on Local and Consent Calendars for consideration by the house; and </a:t>
            </a:r>
            <a:br>
              <a:rPr sz="2000"/>
            </a:br>
            <a:br>
              <a:rPr sz="2000"/>
            </a:br>
            <a:r>
              <a:rPr b="0" lang="en-US" sz="2000" spc="-1" strike="noStrike">
                <a:solidFill>
                  <a:srgbClr val="000000"/>
                </a:solidFill>
                <a:latin typeface="Calibri"/>
              </a:rPr>
              <a:t>4 - the Congratulatory and Memorial Calendar, which contains a list of congratulatory and memorial resolutions and motions scheduled by the Committee on Rules and Resolutions for consideration by the hou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provide summaries of the work done by legislative sessions dating back to the 48</a:t>
            </a:r>
            <a:r>
              <a:rPr b="0" lang="en-US" sz="4400" spc="-1" strike="noStrike" baseline="30000">
                <a:solidFill>
                  <a:srgbClr val="000000"/>
                </a:solidFill>
                <a:latin typeface="Calibri"/>
              </a:rPr>
              <a:t>th</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Agenda and Intent Calend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nate Agenda contains information on various measures that the Senate may act on. Only one of which is the consideration of bills reported out of committee. These are officially to be heard in the order they are reported out of committee to the Senate. </a:t>
            </a:r>
            <a:br>
              <a:rPr sz="4000"/>
            </a:br>
            <a:br>
              <a:rPr sz="4000"/>
            </a:br>
            <a:r>
              <a:rPr b="0" lang="en-US" sz="4000" spc="-1" strike="noStrike">
                <a:solidFill>
                  <a:srgbClr val="000000"/>
                </a:solidFill>
                <a:latin typeface="Calibri"/>
              </a:rPr>
              <a:t>Here’s language from the GTLI: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enate rules require that bills and resolutions be listed on the regular order of business and be considered on second reading in the order in which committee reports on the measures are submitted to the senate. During a regular session, the senate adopts a further rule specifying that before a bill or joint resolution may be brought up for floor debate out of its regular order, notice of intent must be filed with the secretary of the senate by 3 p.m. on the last preceding calendar day the senate was in session.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senator may give notice on no more than three bills or resolutions before April 15 and on no more than five bills or resolutions on or after April 15. Senate rules direct the secretary of the senate to prepare a list of all legislation for which notice has been given. The list, called the Intent Calendar, must be made available to each senator and to the press not later than 6:30 p.m. on the day the notice is filed. </a:t>
            </a:r>
            <a:r>
              <a:rPr b="0" lang="en-US" sz="2800" spc="-1" strike="noStrike">
                <a:solidFill>
                  <a:srgbClr val="ff0000"/>
                </a:solidFill>
                <a:latin typeface="Calibri"/>
              </a:rPr>
              <a:t>No bill or resolution may be considered on its first day on the Intent Calendar, and a vote of two-thirds of the senators present is required before any of the measures listed on the Intent Calendar may be debated</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last part is important. An opportunity exists to consider bills out of order if the desired bill is placed on the intent calendar. </a:t>
            </a:r>
            <a:br>
              <a:rPr sz="4400"/>
            </a:br>
            <a:br>
              <a:rPr sz="4400"/>
            </a:br>
            <a:r>
              <a:rPr b="0" lang="en-US" sz="4400" spc="-1" strike="noStrike">
                <a:solidFill>
                  <a:srgbClr val="000000"/>
                </a:solidFill>
                <a:latin typeface="Calibri"/>
              </a:rPr>
              <a:t>This has led to a custom in the Senate. At the beginning of each session a dummy bill is introduced and placed on the Intent Calend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 is on top of the Intent Calendar, a 2/3rds vote is necessary in order for any other bill to be considered by the Senate. </a:t>
            </a:r>
            <a:br>
              <a:rPr sz="4400"/>
            </a:br>
            <a:br>
              <a:rPr sz="4400"/>
            </a:br>
            <a:r>
              <a:rPr b="0" lang="en-US" sz="4400" spc="-1" strike="noStrike">
                <a:solidFill>
                  <a:srgbClr val="000000"/>
                </a:solidFill>
                <a:latin typeface="Calibri"/>
              </a:rPr>
              <a:t>This allows the Senate to be more responsive to minorities tha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r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are then read a second time before the chamber (the caption only). It can then be debated by the chamber. The chamber may then amend the bill by simple majority vote. After amendments are considered, the bill is read a third time and a final vote is he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f the bill receives a simple majority vote, it is considered passed, and the chief clerk of the house or the secretary of the senate, as appropriate, certifies the bill’s final passage, noting on it the date of its passage and the vote by which it passed. When the bill is passed in the originating chamber, the bill is engrossed (all corrections and amendments are incorporated into it), and an exact and accurate copy of the engrossed bill is prepared and sent to the opposite chamber for conside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 in the othe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Texas Legislature can obtain help in creating legislation from the Texas Legislative Counci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in the other chamber mostly mirrors that in the originating chamber. </a:t>
            </a:r>
            <a:br>
              <a:rPr sz="4000"/>
            </a:br>
            <a:br>
              <a:rPr sz="4000"/>
            </a:br>
            <a:r>
              <a:rPr b="0" lang="en-US" sz="4000" spc="-1" strike="noStrike">
                <a:solidFill>
                  <a:srgbClr val="000000"/>
                </a:solidFill>
                <a:latin typeface="Calibri"/>
              </a:rPr>
              <a:t>The chamber itself however is different and the factors that motivate one may not motivate the other. There is no guarantee that a bill supported by the House will be approved by the Senate or voice vers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icameral legislature, each chamber is a check on the power of the other. </a:t>
            </a:r>
            <a:br>
              <a:rPr sz="4400"/>
            </a:br>
            <a:br>
              <a:rPr sz="4400"/>
            </a:br>
            <a:r>
              <a:rPr b="0" lang="en-US" sz="4400" spc="-1" strike="noStrike">
                <a:solidFill>
                  <a:srgbClr val="000000"/>
                </a:solidFill>
                <a:latin typeface="Calibri"/>
              </a:rPr>
              <a:t>The majoritarian pressures the electorate can place to act quickly in the House is checked by the processes that slow things down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 of local and noncontroversial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ignificant number of bills introduced in the House and Senate do not deal with any substantive state matters, but rather local matters, or issues that are non-controversial. </a:t>
            </a:r>
            <a:br>
              <a:rPr sz="4000"/>
            </a:br>
            <a:br>
              <a:rPr sz="4000"/>
            </a:br>
            <a:r>
              <a:rPr b="0" lang="en-US" sz="4000" spc="-1" strike="noStrike">
                <a:solidFill>
                  <a:srgbClr val="000000"/>
                </a:solidFill>
                <a:latin typeface="Calibri"/>
              </a:rPr>
              <a:t>Each chamber has a committees that sets the calendar that deals with ea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House Local and Consent Calendars Committee.</a:t>
            </a:r>
            <a:br>
              <a:rPr sz="4400"/>
            </a:br>
            <a:br>
              <a:rPr sz="4400"/>
            </a:br>
            <a:r>
              <a:rPr b="0" lang="en-US" sz="4400" spc="-1" strike="noStrike">
                <a:solidFill>
                  <a:srgbClr val="000000"/>
                </a:solidFill>
                <a:latin typeface="Calibri"/>
              </a:rPr>
              <a:t>Click here for the Senate Committee on Administration, which sets the Local and Uncontested Calendar for that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turn of a bill to the originating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bill has been passed by the other chamber without amendment, then it is returned to the originating chamber where the bill is then enro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ROLLED—The stage in a bill’s legislative progress when it has been passed by both chambers of the legislature in identical form and is prepared for signature by the presiding officers of both hous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erence committ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amendments have been made to a bill in one chamber, that were not accepted in the other a conference committee can be requested by the presiding officers in each chamber to reconcile differences between the two. </a:t>
            </a:r>
            <a:br>
              <a:rPr sz="3600"/>
            </a:br>
            <a:br>
              <a:rPr sz="3600"/>
            </a:br>
            <a:r>
              <a:rPr b="0" lang="en-US" sz="3600" spc="-1" strike="noStrike">
                <a:solidFill>
                  <a:srgbClr val="000000"/>
                </a:solidFill>
                <a:latin typeface="Calibri"/>
              </a:rPr>
              <a:t>The resulting report is introduced in both chambers and if it is passed, the report is enrolled, signed by the presiding officers of each chamber and sent to the govern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ailed background about the facts related to the subject matter of bills is provided by the House Research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report is not accepted by either chamber the bill d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or's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bill is sent to the governor within 10 days of the final adjournment (sine die), the governor can sign or veto it or allow it to become a law without his signature. Vetoes or signatures must happen within 20 calendar days after final adjou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bill is sent with more than 10 days remaining, the vetoed bill is returned to the chamber where it originated and if a 2/3rds majority votes for the bill – as well as a 2/3rds majority of the other chamber – then the veto is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Governor also has line item veto authority which allows for the veto of specific budget items. This is an effective tool for limiting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82nd Session</a:t>
            </a:r>
            <a:br>
              <a:rPr sz="4400"/>
            </a:br>
            <a:br>
              <a:rPr sz="4400"/>
            </a:br>
            <a:r>
              <a:rPr b="0" lang="en-US" sz="4400" spc="-1" strike="noStrike">
                <a:solidFill>
                  <a:srgbClr val="000000"/>
                </a:solidFill>
                <a:latin typeface="Calibri"/>
              </a:rPr>
              <a:t>Bills Signed</a:t>
            </a:r>
            <a:br>
              <a:rPr sz="4400"/>
            </a:br>
            <a:r>
              <a:rPr b="0" lang="en-US" sz="4400" spc="-1" strike="noStrike">
                <a:solidFill>
                  <a:srgbClr val="000000"/>
                </a:solidFill>
                <a:latin typeface="Calibri"/>
              </a:rPr>
              <a:t>Bills Vetoes</a:t>
            </a:r>
            <a:br>
              <a:rPr sz="4400"/>
            </a:br>
            <a:r>
              <a:rPr b="0" lang="en-US" sz="4400" spc="-1" strike="noStrike">
                <a:solidFill>
                  <a:srgbClr val="000000"/>
                </a:solidFill>
                <a:latin typeface="Calibri"/>
              </a:rPr>
              <a:t>Bills Allowed to Becom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llowing a constitutional mandate, bills do not become effective for 90 days following the adjournment of the session where it was enacted. </a:t>
            </a:r>
            <a:br>
              <a:rPr sz="4400"/>
            </a:br>
            <a:br>
              <a:rPr sz="4400"/>
            </a:br>
            <a:r>
              <a:rPr b="0" lang="en-US" sz="4400" spc="-1" strike="noStrike">
                <a:solidFill>
                  <a:srgbClr val="000000"/>
                </a:solidFill>
                <a:latin typeface="Calibri"/>
              </a:rPr>
              <a:t>The Legislature, by a 2/3rds vote can direc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ing and publication of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becomes a law, the executive clerk to the governor sends the bill to the Secretary of State which files the bill. </a:t>
            </a:r>
            <a:br>
              <a:rPr sz="4400"/>
            </a:br>
            <a:br>
              <a:rPr sz="4400"/>
            </a:br>
            <a:r>
              <a:rPr b="0" lang="en-US" sz="4400" spc="-1" strike="noStrike">
                <a:solidFill>
                  <a:srgbClr val="000000"/>
                </a:solidFill>
                <a:latin typeface="Calibri"/>
              </a:rPr>
              <a:t>Bills are kept at the Texas State Library and Archives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legislature is in session, you can track bills by going to the Texas Legislature Online and click on Bill Look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rther information about past laws can be found here:</a:t>
            </a:r>
            <a:br>
              <a:rPr sz="4400"/>
            </a:br>
            <a:br>
              <a:rPr sz="4400"/>
            </a:br>
            <a:r>
              <a:rPr b="0" lang="en-US" sz="4400" spc="-1" strike="noStrike">
                <a:solidFill>
                  <a:srgbClr val="000000"/>
                </a:solidFill>
                <a:latin typeface="Calibri"/>
              </a:rPr>
              <a:t>General and Special Laws of the Stat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nt of bills is incorporated into Texas Government Co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11:46:51Z</dcterms:created>
  <dc:creator>Kevin Jefferies</dc:creator>
  <dc:description/>
  <dc:language>en-US</dc:language>
  <cp:lastModifiedBy>Kevin Jefferies</cp:lastModifiedBy>
  <dcterms:modified xsi:type="dcterms:W3CDTF">2012-10-08T11:00:06Z</dcterms:modified>
  <cp:revision>123</cp:revision>
  <dc:subject/>
  <dc:title>GOVT 2306</dc:title>
</cp:coreProperties>
</file>